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EE-D041-48FB-B590-0F4C025C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927-A2ED-4852-A30D-AF5FCD5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42B-6007-434E-AF0D-32496AA5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350-C012-4D77-8121-B619B330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B912-C76C-4D32-BB32-CF8EBCB4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BC9B-E6D1-4EEF-A961-51C4D534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0B7-311A-498B-B274-5BBC94B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6C85-9715-41DF-A90E-FAC2D58B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25D3-C760-4AE9-B7EE-890A986D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B785-6F9E-4AAD-88D2-52AE787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880-385C-4325-952A-8D5E7F0F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604-67A2-4F2D-B205-3E867C55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B2B8-C7F3-4C28-9746-AE30F15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3D2D-62BB-431B-BB99-66611CAC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DBCA-0CA4-4E60-B341-9E9F1BE7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7E3-A7F3-4373-925B-6CE63D24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D4A-090C-48A5-98B8-79A33AEE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562-AAFA-46A4-A77B-A8BFC929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B33-D6D6-4774-9347-58A6E471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6F1-AF68-4654-81ED-5C5EFE09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0B6-55F2-4BD7-A30A-9C37DA33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954-795D-4792-9D7E-58B21D41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A99-8BDE-492A-8F96-6C9A87DF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6CD-28D5-41EA-8064-032704B9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23C6-6B33-41E7-9A0C-7D0A4C388F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eaeaea"/>
                </a:solidFill>
                <a:latin typeface="Times New Roman"/>
                <a:ea typeface="굴림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EB08-305F-456D-90D6-26F6BF6B5485}" type="slidenum">
              <a:rPr b="0" lang="ko-KR" sz="1400" spc="-1" strike="noStrike">
                <a:solidFill>
                  <a:srgbClr val="eaeaea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  <a:ea typeface="굴림"/>
              </a:rPr>
              <a:t>Energy of Lod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About Lodz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Łódź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 is the third-largest city in Poland. Located in the central part of the country, it had a population of 753,192 in 2007. It is the capital of Łódź Voivodeship, and is approximately 135 kilometres (84 mi) south-west of Warsaw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Wi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When we use wind. it cost abo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1.8mv=2100zt~77000z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when ra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re are strong wind, so it mo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Very wel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it can be nois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Because of wind sou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Picture 4" descr="바람"/>
          <p:cNvPicPr/>
          <p:nvPr/>
        </p:nvPicPr>
        <p:blipFill>
          <a:blip r:embed="rId1"/>
          <a:stretch/>
        </p:blipFill>
        <p:spPr>
          <a:xfrm>
            <a:off x="3492360" y="5300640"/>
            <a:ext cx="2646360" cy="131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ukkllio l"/>
          <p:cNvPicPr/>
          <p:nvPr/>
        </p:nvPicPr>
        <p:blipFill>
          <a:blip r:embed="rId2"/>
          <a:stretch/>
        </p:blipFill>
        <p:spPr>
          <a:xfrm>
            <a:off x="6300720" y="4941720"/>
            <a:ext cx="1297080" cy="16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Sola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we use solar, cost about in 10m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245zt~2800000zt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we can spare electricit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when it’s flood, there are no sun, so we can use su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Picture 4" descr="duf"/>
          <p:cNvPicPr/>
          <p:nvPr/>
        </p:nvPicPr>
        <p:blipFill>
          <a:blip r:embed="rId1"/>
          <a:stretch/>
        </p:blipFill>
        <p:spPr>
          <a:xfrm>
            <a:off x="2195640" y="4581360"/>
            <a:ext cx="2692440" cy="2044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kj'uopuuggufiko"/>
          <p:cNvPicPr/>
          <p:nvPr/>
        </p:nvPicPr>
        <p:blipFill>
          <a:blip r:embed="rId2"/>
          <a:stretch/>
        </p:blipFill>
        <p:spPr>
          <a:xfrm>
            <a:off x="5148360" y="4581360"/>
            <a:ext cx="30859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C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When we use coal it cost about 2275000zt on 500Mv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good point is Poland one of the volunteer is coal. so we can use it very usuall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weak point is  the sound will be very noisy, and it’s dangerou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The reas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reason of I choose the wind is  in the Poland, most of season is winter. In winter are cold and lot of wind, so I choose the wind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The reason of  I choose solar is in a week there are lot of sun, so we can save the solar, and we can use what we sa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굴림"/>
              </a:rPr>
              <a:t>The cho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굴림"/>
              </a:rPr>
              <a:t>I will choice the wind, because every day we have a wind. But! Maybe it could be very noisy, so we can construction in small country which is no perso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굴림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6999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굴림"/>
              </a:rPr>
              <a:t>watch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20:39:59Z</dcterms:created>
  <dc:creator>sk1005</dc:creator>
  <dc:description/>
  <cp:keywords/>
  <dc:language>en-US</dc:language>
  <cp:lastModifiedBy>sk1005</cp:lastModifiedBy>
  <dcterms:modified xsi:type="dcterms:W3CDTF">2009-03-26T00:34:12Z</dcterms:modified>
  <cp:revision>9</cp:revision>
  <dc:subject/>
  <dc:title>슬라이드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2</vt:lpwstr>
  </property>
</Properties>
</file>